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3F0-6E76-401F-B782-E77DE718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2AC-E4A8-4195-A550-521AC20B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908-7890-4242-A6A5-814412B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D58-DC2F-4A70-BFE0-8FE5C7F8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0946-4E3E-4E0F-842A-72F057F3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42E-F450-4129-9872-EACE214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C572-127C-4C92-BF06-F9090D3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2387-60D9-4998-8FE2-6A08CBE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A2E7-FBE4-4E43-8215-EA1C877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D7A-FC77-4ED7-871C-F54FC46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DE37-1B48-49F7-BD90-374DE35B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30E-9887-48DE-849D-F2880BA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D4E-129F-44EF-99B1-5EFA7022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E7BB-E8C6-436D-901D-D4E210F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526-801C-44AF-AE36-20FDC429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D4F-19B1-4472-A939-BD7D13F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2B5-9E57-4668-B370-876F4B80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66C-4ACB-445C-964E-1E0BFB52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025-1FA5-451F-BDFE-8CD7BCE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598-0B5D-4AB4-80DE-8E59967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DC6-A63C-4C2F-BED9-8849651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110-96AC-4A09-9E94-5C2FC3C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5EF-C8BE-42CB-A2FC-E513D0F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78E-570C-4E28-9138-97D12E5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9EE9-18D3-4C39-9D52-A08067990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EAEB-14AF-480D-8242-3DD86AFB7C5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can09-03-02 1249"/>
          <p:cNvPicPr/>
          <p:nvPr/>
        </p:nvPicPr>
        <p:blipFill>
          <a:blip r:embed="rId1"/>
          <a:srcRect l="0" t="27346" r="49299" b="-269"/>
          <a:stretch/>
        </p:blipFill>
        <p:spPr>
          <a:xfrm>
            <a:off x="3048120" y="228600"/>
            <a:ext cx="3346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rsaw Pac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y alliance between Soviet Union and it’s satellite nations (Eastern Euro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esponse to West Germany joining 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NATO_vs_Warsaw_%281949-1990%29"/>
          <p:cNvPicPr/>
          <p:nvPr/>
        </p:nvPicPr>
        <p:blipFill>
          <a:blip r:embed="rId1"/>
          <a:stretch/>
        </p:blipFill>
        <p:spPr>
          <a:xfrm>
            <a:off x="152280" y="3733920"/>
            <a:ext cx="8991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ikita Khrushchev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&gt; 30,000 Hungarians fighting to leave Warsaw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Nikita Khrushchev"/>
          <p:cNvPicPr/>
          <p:nvPr/>
        </p:nvPicPr>
        <p:blipFill>
          <a:blip r:embed="rId2"/>
          <a:stretch/>
        </p:blipFill>
        <p:spPr>
          <a:xfrm>
            <a:off x="5257800" y="1981080"/>
            <a:ext cx="36702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S Budget for Defens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40 – 1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0 – 3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 – 5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 – 2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6 – 36%  $600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efense spending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E:\BHS US History\Unit 9 Cold War and JFK\ch 15 Cold War\nuclear monster pc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IV.  Eisenhower’s Cold War Polic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ensions continue to grow between S.U. &amp;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the H-Bomb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Union now had the A-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needed to have a nuclear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x’s stro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year later, Soviets make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Castle_Bravo_2-29-1954"/>
          <p:cNvPicPr/>
          <p:nvPr/>
        </p:nvPicPr>
        <p:blipFill>
          <a:blip r:embed="rId1"/>
          <a:stretch/>
        </p:blipFill>
        <p:spPr>
          <a:xfrm>
            <a:off x="5181480" y="2286000"/>
            <a:ext cx="38102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licy of Brinkmanship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go to the brink, or edge, or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 arms race en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practice air-r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u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.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" descr="John Foster Dulles"/>
          <p:cNvPicPr/>
          <p:nvPr/>
        </p:nvPicPr>
        <p:blipFill>
          <a:blip r:embed="rId2"/>
          <a:stretch/>
        </p:blipFill>
        <p:spPr>
          <a:xfrm>
            <a:off x="5867280" y="1523880"/>
            <a:ext cx="2433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uck and co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952 Election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wight D. Eisenhow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wight D. Eisenhower"/>
          <p:cNvPicPr/>
          <p:nvPr/>
        </p:nvPicPr>
        <p:blipFill>
          <a:blip r:embed="rId1"/>
          <a:stretch/>
        </p:blipFill>
        <p:spPr>
          <a:xfrm>
            <a:off x="3429000" y="2057400"/>
            <a:ext cx="3338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ntral Intelligence Agency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ka C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cy used spies to gather info abroad as well as carrying out covert actions in “unfriendly”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249px-CIA"/>
          <p:cNvPicPr/>
          <p:nvPr/>
        </p:nvPicPr>
        <p:blipFill>
          <a:blip r:embed="rId2"/>
          <a:stretch/>
        </p:blipFill>
        <p:spPr>
          <a:xfrm>
            <a:off x="5181480" y="1981080"/>
            <a:ext cx="338004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vert Action in the Middle East and Latin Americ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n: PM Mohammed Mossadegh placed oil industry under gov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 persuades shah of Iran to replace PM with friendlier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 gives land to peas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rains army and overthrows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isenhower Doctr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 Middle East from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Dwight D. Eisenhower"/>
          <p:cNvPicPr/>
          <p:nvPr/>
        </p:nvPicPr>
        <p:blipFill>
          <a:blip r:embed="rId2"/>
          <a:stretch/>
        </p:blipFill>
        <p:spPr>
          <a:xfrm>
            <a:off x="5334120" y="1981080"/>
            <a:ext cx="3276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2-27T03:56:20Z</dcterms:modified>
  <cp:revision>11</cp:revision>
  <dc:subject/>
  <dc:title>PowerPoint Presentation</dc:title>
</cp:coreProperties>
</file>